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49143"/>
        <c:axId val="14488776"/>
      </c:barChart>
      <c:catAx>
        <c:axId val="13749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88776"/>
        <c:crosses val="autoZero"/>
        <c:auto val="1"/>
        <c:lblAlgn val="ctr"/>
        <c:lblOffset val="100"/>
        <c:noMultiLvlLbl val="0"/>
      </c:catAx>
      <c:valAx>
        <c:axId val="14488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49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3DC-E796-4BE7-B6FC-856D5BF0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E4C-4886-4D72-AC39-C639764D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20E-8B1A-45B6-B956-CD08ECB3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EA9-7A92-48FF-9AE7-295FCD74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9C6-0C3A-4A22-A5D7-1434F9E2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E5A-9385-4DEA-99D5-E14EBCE3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435-1F42-4E02-8F38-F65DA108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2FD-F4F0-441D-A5ED-09EACDCF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292-FD3F-4BE0-ACAD-92E9DC50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03C-89E9-4E67-B9C9-FCA7C31D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1F7-324D-404F-ADB5-81C2292E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13C-FD94-4C8A-A454-0CF56865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378E4-2496-486D-924E-FD27EFD0E2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