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98730"/>
        <c:axId val="18989951"/>
      </c:barChart>
      <c:catAx>
        <c:axId val="42198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89951"/>
        <c:crosses val="autoZero"/>
        <c:auto val="1"/>
        <c:lblAlgn val="ctr"/>
        <c:lblOffset val="100"/>
        <c:noMultiLvlLbl val="0"/>
      </c:catAx>
      <c:valAx>
        <c:axId val="189899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98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CA9-44BA-4C36-9B37-BE52994C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CF7E-A60E-433E-A211-CA816491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D36-9C7A-47DA-8D4A-26B33EC7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A868-ECFF-4FAF-A560-98356246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E44-6EE2-4121-83E7-DC3EEE77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262-FDAC-4AC6-8285-0BEAF451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084-051D-4C49-A8AF-C3E738AE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79C-99FF-4050-843B-D4AB61C4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7D6-1BF6-4EF5-878F-DE6CCBD1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47D-D2B5-44A8-8A82-5528259A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A4B-C726-4373-BEF1-3353A8C5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B01F-FFE3-4526-95CC-C7BE600A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A0CC8-0D4B-46D9-BB52-0BAC13C270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