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72135"/>
        <c:axId val="43138756"/>
      </c:barChart>
      <c:catAx>
        <c:axId val="72772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38756"/>
        <c:crosses val="autoZero"/>
        <c:auto val="1"/>
        <c:lblAlgn val="ctr"/>
        <c:lblOffset val="100"/>
        <c:noMultiLvlLbl val="0"/>
      </c:catAx>
      <c:valAx>
        <c:axId val="43138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2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836-3580-44D5-993B-B1AF42A4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81A-991B-4D2A-BEB2-B997E2E1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4FA-C722-44A1-B2D1-1F603690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16D-D254-4E71-A288-16BC36E1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9E3-5932-4098-AB1F-936BC82D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EF8-F3EE-4139-B54D-B1A22BD9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694-E841-4054-914A-475047B6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986-ADE9-423C-820A-CF232588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21B-57C6-40F1-9E07-0F71A13F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446-96D8-4856-869C-35F9F8C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D1D-D10B-4ACF-AA1C-248879F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E7E-1DC0-42B2-A871-FCF5B6D3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D8D12-DA20-4C4F-82E8-F6D5C093CB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