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8286"/>
        <c:axId val="73781749"/>
      </c:barChart>
      <c:catAx>
        <c:axId val="4328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81749"/>
        <c:crosses val="autoZero"/>
        <c:auto val="1"/>
        <c:lblAlgn val="ctr"/>
        <c:lblOffset val="100"/>
        <c:noMultiLvlLbl val="0"/>
      </c:catAx>
      <c:valAx>
        <c:axId val="73781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8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C93-30ED-4320-98F4-6A70399B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3A6-33EC-4D16-912A-76060906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3AF-FA22-4C2C-BAD9-B205CD87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E31-31A7-4A72-A704-22EE87A2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04E-AC58-4695-8A7C-6C26A123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4BB-9B0F-44C2-9CAA-A1060685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B64-C53A-48A1-8E7D-9B509AFA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8DB-709A-48AE-988F-BBD0A074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43DD-C196-4408-8C32-B1F1F478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3B48-384A-42C8-8684-EA8CAC9F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59D-E341-4747-AC07-73F8CF6D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7E0-C11E-41CD-B99D-81C8B2D7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AA2DB-4904-4E2F-B7CE-84B396FB09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