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05199"/>
        <c:axId val="86588995"/>
      </c:barChart>
      <c:catAx>
        <c:axId val="41605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8995"/>
        <c:crosses val="autoZero"/>
        <c:auto val="1"/>
        <c:lblAlgn val="ctr"/>
        <c:lblOffset val="100"/>
        <c:noMultiLvlLbl val="0"/>
      </c:catAx>
      <c:valAx>
        <c:axId val="86588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05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CF6-B52D-4041-AD59-E3BEC833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BF4-2D4C-4885-8A44-00BCB705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67B-30AC-4327-AEA1-441D8A1E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6FD-BE1A-4E26-9FC2-8BDD348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607-C630-4C22-AC32-5D89772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26A-0808-4359-8CF2-9F6A4AC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2ED-2CD0-47DD-8CCA-A80B1CFA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271-16A0-4A13-973F-03631D2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49E-F757-4AE3-9152-3392DE81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142-027C-41E3-8680-FD3A70B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899-C5CB-40D7-977E-33AAF5E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1B4-3BB6-4EE1-8564-C1173D6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13A46-0A24-48A6-98B7-2AA5667888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