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99323"/>
        <c:axId val="62617082"/>
      </c:barChart>
      <c:catAx>
        <c:axId val="71199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17082"/>
        <c:crosses val="autoZero"/>
        <c:auto val="1"/>
        <c:lblAlgn val="ctr"/>
        <c:lblOffset val="100"/>
        <c:noMultiLvlLbl val="0"/>
      </c:catAx>
      <c:valAx>
        <c:axId val="6261708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99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63A2-9BD4-41D4-92ED-1D957C68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0642-34E3-4840-9AB0-DBB50ADD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F0B5-4289-4821-BA86-5AD3BA1B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F68-3946-4934-8177-B9965C8C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302D-ECFC-430D-8E1F-EC53207E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47CF-ECB1-4807-B965-84213862E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A3731-7A50-460D-8118-0245F320F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D15A8-3262-42FC-9587-4390A1891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AF46-A8BC-4B0F-9DD7-66D7AF50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187C-4A45-409A-A6EF-1DE6F7F2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43D7-E5B0-4BA6-B1C7-8ECADDFD4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480D-69EE-4D7E-B003-DA3F1E32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EFFEB-97AD-4C0A-A060-C06E51A3D6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