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746467"/>
        <c:axId val="22993696"/>
      </c:barChart>
      <c:catAx>
        <c:axId val="82746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93696"/>
        <c:crosses val="autoZero"/>
        <c:auto val="1"/>
        <c:lblAlgn val="ctr"/>
        <c:lblOffset val="100"/>
        <c:noMultiLvlLbl val="0"/>
      </c:catAx>
      <c:valAx>
        <c:axId val="22993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46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1B42-85ED-449F-9F73-57A802D2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9DBC-9D27-4E85-B788-177FB123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C2A-D5BF-46B1-962F-93EF82B3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382-5B30-40EC-B7AC-35B814DE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D970-E2F9-4458-882A-3E1A1BC8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0CE5-6CCD-4E5E-A4DD-1660EE69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2EC3-51EE-4E03-91F8-B56AE428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BED-8722-4FAC-B23E-A6F93EC9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AA6-D04D-4359-8398-E620AA53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C68-2DBD-483C-B3E2-1DEB5657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D2B4-9252-498C-8829-BABD597B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3ED-0C09-4245-A6E5-23FACE6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86DEA-1A31-42B1-876F-F5616A241E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