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61591"/>
        <c:axId val="5580753"/>
      </c:barChart>
      <c:catAx>
        <c:axId val="19461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0753"/>
        <c:crosses val="autoZero"/>
        <c:auto val="1"/>
        <c:lblAlgn val="ctr"/>
        <c:lblOffset val="100"/>
        <c:noMultiLvlLbl val="0"/>
      </c:catAx>
      <c:valAx>
        <c:axId val="5580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1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8F1-F46E-4B33-9D70-66A03D2E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889-1067-4BE8-B419-7F7A9BE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BBE-0971-49BB-8577-834C968C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873-0DD8-45A7-B2C4-6C99DBFA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D7D-C307-4861-8AA4-AE63902E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6AE-61C7-43BE-B2AC-ECAA4376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C3B-5F43-4B79-82C1-8C989FCE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FBD-33B9-4189-80BF-D03F9B15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F07-5BE2-4F95-9EDB-F488CA9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17B-3DA6-423A-A75E-9B09A9F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2BD-B1DD-4392-8AFA-6399EA2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A68-8424-4F4C-863D-1318682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B24A3-00BD-44B3-B524-02C4E46342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