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4783"/>
        <c:axId val="62853173"/>
      </c:barChart>
      <c:catAx>
        <c:axId val="3474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53173"/>
        <c:crosses val="autoZero"/>
        <c:auto val="1"/>
        <c:lblAlgn val="ctr"/>
        <c:lblOffset val="100"/>
        <c:noMultiLvlLbl val="0"/>
      </c:catAx>
      <c:valAx>
        <c:axId val="62853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4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139-96D2-4F49-8034-4B531915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E89-D21C-4C0D-BB35-2533D8A8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DD5-E40A-4E02-935B-83D281B9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E8B-713F-4C43-9F36-84747A65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1E1-A434-44BC-A300-942939BF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E6C-9434-45FF-A2AF-2B988379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479-5C33-462E-8D85-41833107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C71-249D-4980-86BC-DD5EB3D8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492-CC70-40E4-A2AA-F7C68D0D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915-FCA5-4821-8178-A2F7F625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F17-08FE-4D39-BBAA-C958EF05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1B0-9813-4433-821C-5F82B01D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58AC0-F1DA-4D29-80DC-7546F70301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