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996194"/>
        <c:axId val="59476760"/>
      </c:barChart>
      <c:catAx>
        <c:axId val="919961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476760"/>
        <c:crosses val="autoZero"/>
        <c:auto val="1"/>
        <c:lblAlgn val="ctr"/>
        <c:lblOffset val="100"/>
        <c:noMultiLvlLbl val="0"/>
      </c:catAx>
      <c:valAx>
        <c:axId val="594767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9961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C0A7-AC55-402D-9A20-5575BFF51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2479-BBEB-4CB9-BB98-77E7482C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F0FC-732A-4A33-A0B0-C62128B86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4A94-BBD8-4A77-B537-75A679E33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F5B0-C7D2-4C40-9F31-9216BA0F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F4EC-3CA9-4A19-9CF4-FF6D7AB0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B1BC-2B55-4006-8DE8-E184344C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AAF3-7462-43BF-9C7B-442D4737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344F-733D-4411-9553-AB8F828F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4E68-54BC-406A-9CF2-9AF98CFA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D7C6-B52F-4347-8398-C5C43B80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CD09-28F0-4FA7-AFEC-4C3ADBB4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7E72E-27C9-475E-A0A9-BC4F8906F6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