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01648"/>
        <c:axId val="20465328"/>
      </c:barChart>
      <c:catAx>
        <c:axId val="77401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5328"/>
        <c:crosses val="autoZero"/>
        <c:auto val="1"/>
        <c:lblAlgn val="ctr"/>
        <c:lblOffset val="100"/>
        <c:noMultiLvlLbl val="0"/>
      </c:catAx>
      <c:valAx>
        <c:axId val="20465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01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672-68B5-4E45-A0F6-B02DDFC9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872-FD5A-46C3-B8AF-DB819DE4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36A-F93E-4746-9C83-8B66F23A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A4-DC14-407C-A1E4-3D2D0FF0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A23-8871-4FCE-AD67-47BA9732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1FE-08AC-440A-978E-AE6D2B3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9F3-AA62-4038-A5D1-C6AA4B5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D63-3ADC-4355-893F-91FC33B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6C7-315E-4253-9C5F-84D39E8A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67E-A21A-4A45-86C8-D9D53C8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75E-9867-4013-ACD2-825BD27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D80-E957-4817-9CAE-1D656C6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4E19-B8E3-4C9A-B5B9-0F5AE394C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