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98657"/>
        <c:axId val="72816988"/>
      </c:barChart>
      <c:catAx>
        <c:axId val="98298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6988"/>
        <c:crosses val="autoZero"/>
        <c:auto val="1"/>
        <c:lblAlgn val="ctr"/>
        <c:lblOffset val="100"/>
        <c:noMultiLvlLbl val="0"/>
      </c:catAx>
      <c:valAx>
        <c:axId val="72816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8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80D-0613-4A1E-A562-D160C17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C12-F406-4069-9071-E9D1DC5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003-D7E3-4730-8957-F2A1C121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1E9-7429-44DD-85E6-FE472A27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E5E-B169-4939-B917-B6F6A12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FE9-606D-4D79-B51E-B030920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7A-2D9F-4C87-AB7C-1FB5131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A19-8296-4AB6-A90A-8736FBD2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72A-534E-4757-964F-046087B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6A5-CB9E-40DC-BC04-B1FEE73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063-AE62-4C29-96B5-DAE7275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711-5A80-4CAA-B45D-70FFDB7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FAF6-E25A-4A4B-A909-304FAE115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