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429967"/>
        <c:axId val="51048363"/>
      </c:barChart>
      <c:catAx>
        <c:axId val="844299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48363"/>
        <c:crosses val="autoZero"/>
        <c:auto val="1"/>
        <c:lblAlgn val="ctr"/>
        <c:lblOffset val="100"/>
        <c:noMultiLvlLbl val="0"/>
      </c:catAx>
      <c:valAx>
        <c:axId val="510483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299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FFD0-B5AE-49FB-908F-A7BA30D7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A5B9-2DB5-40AF-8973-410F6668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EE69-1FF1-4669-A739-1D8CBB14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D8CF-AAEF-426B-B835-FE829C60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37FE-4D51-4A07-9B16-9B0D929E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EF78-B760-4C81-9B81-9908E9B0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ED77-DD4F-4CAA-9DA5-DEF39966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82CF-106E-4AC1-8621-2FA27499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E0B5-9F18-4634-8657-9A50629E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353A-17F1-42F5-B6E7-16A2BD79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C1C7-6EC6-4C83-9366-39A0F775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FDA8-8E47-4DB5-B6B1-30B32FB2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63DC9-2589-40E3-A195-C54718DEC2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