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30634"/>
        <c:axId val="92312311"/>
      </c:barChart>
      <c:catAx>
        <c:axId val="98930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2311"/>
        <c:crosses val="autoZero"/>
        <c:auto val="1"/>
        <c:lblAlgn val="ctr"/>
        <c:lblOffset val="100"/>
        <c:noMultiLvlLbl val="0"/>
      </c:catAx>
      <c:valAx>
        <c:axId val="92312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30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AB1-CEB9-45F9-A73E-5E1014BD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1F7-D119-4909-AC5F-A04D7331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AA1-09E8-45F4-8A16-8DBB6C4B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BFD-4F56-437E-800D-C162742F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736-8B7E-4A87-B4F6-796A4F4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171-34F0-46B2-B919-932A4A52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201-B0DE-44C5-A3DD-68F626EC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291-20B0-4550-A864-D5099A54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935-10AC-4023-921A-AEA77D6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688-077B-40C6-8F25-61C1316A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CD1-43DB-4C13-B370-AEFAF07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A6F-9E8C-4FD5-9621-1121D8C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A92B-780F-423E-8574-274972D8F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