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7978"/>
        <c:axId val="13936718"/>
      </c:barChart>
      <c:catAx>
        <c:axId val="2437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36718"/>
        <c:crosses val="autoZero"/>
        <c:auto val="1"/>
        <c:lblAlgn val="ctr"/>
        <c:lblOffset val="100"/>
        <c:noMultiLvlLbl val="0"/>
      </c:catAx>
      <c:valAx>
        <c:axId val="13936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1FD-BC10-461A-B433-1A07B0A3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416-7167-4DEB-9BD9-A93EA8E8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67E-C4FD-40D5-BB50-550C04FA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689-3209-443B-B21A-C551BFF9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A7E-CF9E-4FCC-AFDA-74564DCB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F78F-9059-4E7C-83E9-537EB306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32F-05B9-4D0D-873A-376813D7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247-30E7-4388-9F89-C26AB5FE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804-37E1-4855-9DB6-46D0A257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944-3533-4DBF-85DA-78E47ACA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768-C606-4FE5-B2BA-ED568FD2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D99-BBE5-4063-98DD-5C8F7C7D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C8757-3610-44D2-9EAF-F855075846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