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365491"/>
        <c:axId val="76214996"/>
      </c:barChart>
      <c:catAx>
        <c:axId val="453654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14996"/>
        <c:crosses val="autoZero"/>
        <c:auto val="1"/>
        <c:lblAlgn val="ctr"/>
        <c:lblOffset val="100"/>
        <c:noMultiLvlLbl val="0"/>
      </c:catAx>
      <c:valAx>
        <c:axId val="76214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654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3CC-4A34-449A-B7A7-2D6169EF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0731-9EF3-477F-BC6E-DE3C2F99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109D-900D-4886-8652-0021A9D9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FF8-117D-48B6-8A6C-96A9F883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7DD-D5F5-430A-8A16-53C92A67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9B45-5C9B-4BAC-9422-EB16F0E3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EEF0-BC77-4F5C-8A35-0ACA37E2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2D67-E42C-48C7-A536-34107E11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51D-89AA-4EEA-B9B6-D2E3CCA6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6294-E648-4A10-BE8B-7FB60586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4D5-49A4-4382-9123-168765FF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965-B03E-41E6-ACB3-147A3454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0A9DF-2ABC-422C-9CBE-148D74F49C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