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106558"/>
        <c:axId val="88522719"/>
      </c:barChart>
      <c:catAx>
        <c:axId val="76106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22719"/>
        <c:crosses val="autoZero"/>
        <c:auto val="1"/>
        <c:lblAlgn val="ctr"/>
        <c:lblOffset val="100"/>
        <c:noMultiLvlLbl val="0"/>
      </c:catAx>
      <c:valAx>
        <c:axId val="88522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06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B82-A0FC-4D76-8655-6C605395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38F-178E-49D1-BEDB-3B23EBD6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7FB-3E56-427B-A762-0E1A1468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12EA-285E-43E9-BE96-DEB750B5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C48-5366-4031-AC97-4AEF71BF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99E-FFE2-442D-AEA1-E77BFDCD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8608-6342-4840-8725-D10763EB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AFD2-9BA7-4B0A-B142-52E7FD47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AFD8-DA3A-4C9F-B9AE-5068A71A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44AC-65D2-4AE7-ABA7-3C5D8AA6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F6D-3452-4C20-A55F-F37CE9B2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4FF-80BF-4B28-A304-7CF8FC78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67DDB-0D75-4911-B7F0-5347A3EB66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