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975146"/>
        <c:axId val="99008209"/>
      </c:barChart>
      <c:catAx>
        <c:axId val="98975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08209"/>
        <c:crosses val="autoZero"/>
        <c:auto val="1"/>
        <c:lblAlgn val="ctr"/>
        <c:lblOffset val="100"/>
        <c:noMultiLvlLbl val="0"/>
      </c:catAx>
      <c:valAx>
        <c:axId val="990082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75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1C6-5561-4827-BE8C-EDEADCB5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2F59-994E-4A9B-A48A-8CD28C80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CC45-A9A4-49F7-BA03-4EDB670E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1640-2B54-4CDD-9409-8E52B46A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8EF7-98B3-476B-A6B1-76B52110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098-84C0-490A-8373-BFABF356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98A8-1463-4BC9-BA95-4E1D1C95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CDB0-4542-4BC4-898D-0EB4E37E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7519-D636-4B8D-8395-DD159A92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A4B1-45F4-4E43-9BC7-897CE0EB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E146-A366-4843-AA3E-AD950B9B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5C2B-3FEA-4616-AA5D-D9E10EF0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45BB3-EF21-4791-B851-555FFA437C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