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86928"/>
        <c:axId val="31628722"/>
      </c:barChart>
      <c:catAx>
        <c:axId val="75586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28722"/>
        <c:crosses val="autoZero"/>
        <c:auto val="1"/>
        <c:lblAlgn val="ctr"/>
        <c:lblOffset val="100"/>
        <c:noMultiLvlLbl val="0"/>
      </c:catAx>
      <c:valAx>
        <c:axId val="31628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86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36F-2346-4EF5-A512-75268D82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08D-0252-4877-AAB5-41967EE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41E9-FB2A-4A33-A862-ADD5C12A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70C-750B-4B80-97F5-D4C9CB33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371-960E-4D90-ACD8-9AFA57D5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003-E68C-4EDF-9851-F4B7D182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124-2161-4C66-87EC-5C4907EF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BBB-4E77-4FA0-B678-154AA86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CA9-A4A2-4B66-8E64-563ED13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345-C3DB-4CF3-ADC0-954C53C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819-862D-4390-96D7-F5541484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28E-87E0-43E0-99FA-AED2A05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4EB3-C4B3-4243-9CFE-F84C9EC41E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