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747319"/>
        <c:axId val="68636972"/>
      </c:barChart>
      <c:catAx>
        <c:axId val="897473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636972"/>
        <c:crosses val="autoZero"/>
        <c:auto val="1"/>
        <c:lblAlgn val="ctr"/>
        <c:lblOffset val="100"/>
        <c:noMultiLvlLbl val="0"/>
      </c:catAx>
      <c:valAx>
        <c:axId val="6863697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7473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DBD1-B131-4269-8F66-0E708D937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234A6-949D-43AE-9CF3-69B2F1424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467BC-142F-46AE-8161-7653B6414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A1EB-76FF-467F-8F08-2E17E249F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3A2E-6674-4692-A66A-A845825CC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0683F-BD30-48B5-B685-E5CF48DCD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65880-76FE-419A-AE94-9B3908B61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11001-E8B3-4F52-A74C-EBC6DE66E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48FA-EEA1-40A9-A9FE-9F6671FC0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156C-A34D-4FAF-BF69-79343A848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4F58-7ADA-41D8-90BA-E169815EE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1F06-D86A-4DCD-AEDF-10DBBACE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7B6A2A-A0DD-4408-8FA2-3A09B69A095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