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68330"/>
        <c:axId val="83285711"/>
      </c:barChart>
      <c:catAx>
        <c:axId val="67268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85711"/>
        <c:crosses val="autoZero"/>
        <c:auto val="1"/>
        <c:lblAlgn val="ctr"/>
        <c:lblOffset val="100"/>
        <c:noMultiLvlLbl val="0"/>
      </c:catAx>
      <c:valAx>
        <c:axId val="83285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68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899-9F49-4CE6-91B6-99A3C198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AFE-6B8D-494A-ABB0-5CFC2B78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31E-7BBB-4B8C-A90F-84CDA70A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CD9-55F4-4A5F-86D1-78C8A1EE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A88-49A1-4429-811C-85FBFF15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9F7-CE1F-41B2-B3CA-7928F9FA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3BA-C23A-4C1B-A78A-35658B7D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A26-AD07-45BF-BA5E-5427D859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1E1-CE65-4B1E-86A6-2BA38D2B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B3D-34DA-4FCC-B0F4-2781CC9B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BDF-0A5C-4F1C-A6E5-57236E39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73F-B000-4739-9B76-453BACAA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7140B-25E5-4B2F-9332-B2EC7D6E22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