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69942"/>
        <c:axId val="71478880"/>
      </c:barChart>
      <c:catAx>
        <c:axId val="14469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78880"/>
        <c:crosses val="autoZero"/>
        <c:auto val="1"/>
        <c:lblAlgn val="ctr"/>
        <c:lblOffset val="100"/>
        <c:noMultiLvlLbl val="0"/>
      </c:catAx>
      <c:valAx>
        <c:axId val="71478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69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E68-EBC4-48A0-A28B-32BA32A0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0D5-143D-42F7-BAB0-B9D776E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C04-D713-4F97-B6A8-D175483E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8B1-3A3C-4FC3-AD74-07E1E2CB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C19-F98A-41C6-B18D-3E7C7145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6A4-EA56-4F7F-920E-29E67B7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B83-05C5-454E-B7D1-7682810D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11C-78E9-4BFC-B1A6-54F7D59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06E-40A0-49C9-9708-512043C3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311-9E2C-43D8-A732-E49C49F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F89-52F0-4FBB-95E8-1FB819E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907-743E-446C-8A9E-7593AA6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12129-1FD7-402F-878A-441206DD4F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