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78292"/>
        <c:axId val="34699798"/>
      </c:barChart>
      <c:catAx>
        <c:axId val="14478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99798"/>
        <c:crosses val="autoZero"/>
        <c:auto val="1"/>
        <c:lblAlgn val="ctr"/>
        <c:lblOffset val="100"/>
        <c:noMultiLvlLbl val="0"/>
      </c:catAx>
      <c:valAx>
        <c:axId val="34699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78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B99-CCD3-48D5-A846-F36AE94A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D469-CC35-4B99-9EB4-E46303F7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C27-2B54-448B-BA6B-CF6F11A7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1BE-1258-4412-93FE-3AD11AAB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F59-BEC9-43BF-95CA-C6498421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BB0-63DA-4104-ADCA-422CF710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83E-50B8-4E55-A464-B7105BA6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FF2-7870-4BA3-8A2D-D073CA4B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D40-B807-478E-9360-63A30C83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B71-C94C-4732-AA85-21DE2518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40C-B2CC-4B0F-8DD5-8DFBB2A2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520-5578-4432-9CBA-14C29669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516C9-7811-4460-8B90-0F73B85AEB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