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05259"/>
        <c:axId val="99529672"/>
      </c:barChart>
      <c:catAx>
        <c:axId val="51205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29672"/>
        <c:crosses val="autoZero"/>
        <c:auto val="1"/>
        <c:lblAlgn val="ctr"/>
        <c:lblOffset val="100"/>
        <c:noMultiLvlLbl val="0"/>
      </c:catAx>
      <c:valAx>
        <c:axId val="99529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5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3A2-05EC-4279-9075-E9273759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A8C-D3EE-43F7-BFC9-789E8B5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9A6-A026-4154-AE45-4E5979E6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2C8-F26F-47EC-AF71-4B88DA25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D32-3F3A-4BB1-AB77-C4796CB4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9FE-7280-41DA-A069-9A6B9A8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E01-F6F4-46FB-9354-CAF7C75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47E-C99F-4EFC-9D76-593A0A3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420-A05E-4ED5-ACBB-FD60C0B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D84-64FA-41FE-8AD4-31FC72F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8FE-2407-49B0-99ED-CCBC625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211-890E-45A8-BCA1-A4B68BA4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F78F1-B817-4E57-8560-39E790DB5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