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18396"/>
        <c:axId val="98515316"/>
      </c:barChart>
      <c:catAx>
        <c:axId val="709183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15316"/>
        <c:crosses val="autoZero"/>
        <c:auto val="1"/>
        <c:lblAlgn val="ctr"/>
        <c:lblOffset val="100"/>
        <c:noMultiLvlLbl val="0"/>
      </c:catAx>
      <c:valAx>
        <c:axId val="98515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183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729-37D7-4EF3-9AFE-FA6D7452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78D9-F625-45FE-BB4A-A09FDC38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54D-0551-431F-9464-BA10E89D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BC9-3EB9-4CA8-B570-F1E61D39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E59-9FDC-4098-B21A-A077BE8A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BC0-3FCA-446C-9071-131FFC61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9A9-4824-451C-8A1D-5E35B1A6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C4C-E2A4-4E66-96C8-BDDD7C75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185-766B-4886-9C34-9BE01A1B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940-C20D-474F-8123-9D86CB77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8BE-45D2-4B03-A0BE-288DA73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45A-5C1F-4451-905E-89784082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7FD88-1FE5-4877-9C52-AED1B27B7F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