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01139"/>
        <c:axId val="90769555"/>
      </c:barChart>
      <c:catAx>
        <c:axId val="86401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69555"/>
        <c:crosses val="autoZero"/>
        <c:auto val="1"/>
        <c:lblAlgn val="ctr"/>
        <c:lblOffset val="100"/>
        <c:noMultiLvlLbl val="0"/>
      </c:catAx>
      <c:valAx>
        <c:axId val="90769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01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C5C-D5FC-4E79-8452-D73E344E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C25F-AD57-435A-AB35-46266D85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7F3-4D6B-44E1-8884-18A28047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0591-9B75-4349-A76F-A31516A4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9C41-CE65-4D7F-88BE-B6C5A677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601-293C-412C-995C-7B697D0C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0860-F43C-4416-A50E-F687277C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EC2-8461-42BC-BD55-502A349D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A6D7-A782-45E9-B665-854BCEC8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BD8-D49D-4F22-8984-08F1B4F4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E3A-2DF3-40CD-BB9C-0FD5DE8B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EE14-BDD2-4103-814D-305C8F1C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73293-8A9E-471B-8F15-C1226EE96D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