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33149"/>
        <c:axId val="63661815"/>
      </c:barChart>
      <c:catAx>
        <c:axId val="84033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1815"/>
        <c:crosses val="autoZero"/>
        <c:auto val="1"/>
        <c:lblAlgn val="ctr"/>
        <c:lblOffset val="100"/>
        <c:noMultiLvlLbl val="0"/>
      </c:catAx>
      <c:valAx>
        <c:axId val="63661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33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512-90EE-4D08-A9CB-E548B44E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0A9-3184-4D6A-ABCF-3FF72691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2B7-04E0-43D0-9AE4-9C1963FF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32A-F18C-4041-87AD-B13A1DD1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A3C-AB6F-416A-B2EA-657AE6CA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AA0-1829-435E-B656-103A82B3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5A2-4BCB-42E2-B051-6618678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33C-6CAB-43BC-A24A-B1787D22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D5F-70C2-4156-A031-09C18CC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700-E388-42E6-8364-DD526F64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D07-ACC1-4C0B-8356-CAD4B87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288-DFA1-4A4A-BE2E-1D529D2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1B452-4A87-4063-8604-A3ED1F16F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