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78310"/>
        <c:axId val="82342057"/>
      </c:barChart>
      <c:catAx>
        <c:axId val="15278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42057"/>
        <c:crosses val="autoZero"/>
        <c:auto val="1"/>
        <c:lblAlgn val="ctr"/>
        <c:lblOffset val="100"/>
        <c:noMultiLvlLbl val="0"/>
      </c:catAx>
      <c:valAx>
        <c:axId val="82342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78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0B0-6BAA-4A2D-A464-63EDB9B0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9F4-4A24-44AE-B979-B94301E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C9D-D860-47D3-973A-438EFA30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EA1-0019-4600-A46E-1ECD193F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090-3D86-4CAD-AA02-88408CB4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B22-44A0-49D4-BEC5-C91ED803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81E-4851-4E0B-87A5-0287E22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328-E3CE-4ECD-AF02-65604329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986-6668-4AA0-9DF1-110CFEE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CC6-429D-45A5-AF30-95B5D8E4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3AA-FF7C-47A6-A0E9-D4190BE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486-E94E-4233-8832-FFE6120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96319-2E16-4FD2-B5C1-83FB5F16DF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