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71815"/>
        <c:axId val="13977032"/>
      </c:barChart>
      <c:catAx>
        <c:axId val="26171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77032"/>
        <c:crosses val="autoZero"/>
        <c:auto val="1"/>
        <c:lblAlgn val="ctr"/>
        <c:lblOffset val="100"/>
        <c:noMultiLvlLbl val="0"/>
      </c:catAx>
      <c:valAx>
        <c:axId val="13977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71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EAE-8FEF-405C-B860-732A95AA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F28-ECDA-4CE7-82F2-E09B660E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C78-2B98-41DD-9D88-22E7512D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4C3-94DF-4485-AA5F-B8C6B1B5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781-E02C-4B8B-9F99-ACB17938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541-0547-4AE0-BE1F-18FBC8C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0D2-E1DA-403D-916F-884200ED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8F4-119F-4FA5-833D-C481AEAC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C4C-197B-4581-BD38-417B1D79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8D4-614D-4045-90AE-CE21398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186-10F2-4E32-BE76-11FADA9F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52A-3930-4FA7-9DAF-EA6CD67A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960A7-876A-469B-814C-FF6C84DE22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