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77455"/>
        <c:axId val="42434432"/>
      </c:barChart>
      <c:catAx>
        <c:axId val="64977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4432"/>
        <c:crosses val="autoZero"/>
        <c:auto val="1"/>
        <c:lblAlgn val="ctr"/>
        <c:lblOffset val="100"/>
        <c:noMultiLvlLbl val="0"/>
      </c:catAx>
      <c:valAx>
        <c:axId val="42434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77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F5B-3BE9-4E49-A836-D2E68771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761-F2C9-4C70-A683-169AA045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E58-DA68-4DC7-898B-44C2C316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072-E5A2-449F-93BF-EC94BAF2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618-ACCC-491E-91D1-62501425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7A5-9AE1-44D2-9337-3517566E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680-D4BE-4A1F-8699-FB902269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7E5-D8FD-4209-ABA6-52BFF484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7E3-7FA6-4DA1-995A-4F5437BB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7AA-A7D4-44ED-8977-E9676BE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4C0-E90B-4AA4-A172-D9DC21C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6F9-B114-4868-B5F6-B4B1CB63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A2E20-7CF3-4715-9A8C-066029D838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