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57009"/>
        <c:axId val="76882163"/>
      </c:barChart>
      <c:catAx>
        <c:axId val="41857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82163"/>
        <c:crosses val="autoZero"/>
        <c:auto val="1"/>
        <c:lblAlgn val="ctr"/>
        <c:lblOffset val="100"/>
        <c:noMultiLvlLbl val="0"/>
      </c:catAx>
      <c:valAx>
        <c:axId val="76882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57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252-CC3C-4BED-BD44-EF93EAE1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585-6B28-4B0C-BED2-80401186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0B2-B131-4C0F-93A8-4A1E01B0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298-333B-4A21-8D38-4BAAAF5D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39D-84C6-4A24-BD62-900B6B79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5CF-7D28-43CF-ACAE-D8FE5F96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ACD-600B-4938-81BE-ABF6A379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E36-AC4A-4691-B128-966255DD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9C1-BFF3-49FD-B1C8-7F0217C6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1F4-D8C2-444C-92C9-DC4805A5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BE3-837D-4627-9A9E-2289CA73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F57-FF4E-4BFB-A1E6-9AC0580B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CE650-B707-43D0-ADCB-092335FD96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