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27"/>
        <c:axId val="45693262"/>
      </c:barChart>
      <c:catAx>
        <c:axId val="31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93262"/>
        <c:crosses val="autoZero"/>
        <c:auto val="1"/>
        <c:lblAlgn val="ctr"/>
        <c:lblOffset val="100"/>
        <c:noMultiLvlLbl val="0"/>
      </c:catAx>
      <c:valAx>
        <c:axId val="45693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533-7147-420C-B3BF-56328DC9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A54-0680-4DD0-B7E0-475ABCD2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69E-19F1-4109-9824-08E1D1DE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7B2-EF94-4141-A55F-38C9BEA7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C3D-AFF9-497A-9DFD-537B2978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EE6-AB42-43B3-8D9A-D2D5099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D30-B625-4760-860A-7D6A9557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B81-9AD0-4400-B562-B171E358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11E-62EE-42B5-8AF5-95AD978E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E1F-B3F0-40CE-AA16-31696D23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D43-75E1-4F63-A3B0-C889258E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2ED-EB19-40E5-8988-65A0783A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9146B-7057-480B-B1BA-D6D810F4E1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