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39965"/>
        <c:axId val="51274572"/>
      </c:barChart>
      <c:catAx>
        <c:axId val="99339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74572"/>
        <c:crosses val="autoZero"/>
        <c:auto val="1"/>
        <c:lblAlgn val="ctr"/>
        <c:lblOffset val="100"/>
        <c:noMultiLvlLbl val="0"/>
      </c:catAx>
      <c:valAx>
        <c:axId val="51274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39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482-D693-486D-A408-85C00103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695-2C94-4A6C-A7CC-DB7A0071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865-0CE2-456E-83D8-6B896368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1BE-0189-4624-A77D-2DE372AF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778-C378-4153-8FA0-B17EFE06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E6A-9956-4FB5-ACB8-2D227B61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3B5-44F1-4470-BA91-D8004172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62F-BD8B-4690-B019-C22B5B39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F81-D00B-4364-818E-B533391F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9B1-C3CF-425A-95BC-A5DBBF4C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FA8-98AF-457B-9F4C-55EA6C9C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1E4-160B-494A-9D03-598AF275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E2851-A538-481A-AA2E-04F0A296A5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