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66642"/>
        <c:axId val="78947052"/>
      </c:barChart>
      <c:catAx>
        <c:axId val="99566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47052"/>
        <c:crosses val="autoZero"/>
        <c:auto val="1"/>
        <c:lblAlgn val="ctr"/>
        <c:lblOffset val="100"/>
        <c:noMultiLvlLbl val="0"/>
      </c:catAx>
      <c:valAx>
        <c:axId val="78947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6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B71-C47A-4186-96F8-3DBC3A7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D85-8322-4AA3-AEA4-63D286F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712-6D9A-4805-A110-6EBD1A4B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4A7-3348-4434-9B68-8253693D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F3D-2504-4231-A7A4-569A31E5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8C7-77C9-43F9-9311-45BCEBF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803-0E9C-4D4C-B991-7A353BE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C0F-940A-43A0-BDFE-2F406CF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F04-58B0-413D-A04A-B2F452B0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041-F48F-430D-B892-45DACCA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B81-EAC6-40DF-9E4B-B1CC21E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A18-DA3E-4ED4-9BD7-4D64C295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E0D64-59EA-4EB9-B34C-26447371C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