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150087"/>
        <c:axId val="98039421"/>
      </c:barChart>
      <c:catAx>
        <c:axId val="521500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039421"/>
        <c:crosses val="autoZero"/>
        <c:auto val="1"/>
        <c:lblAlgn val="ctr"/>
        <c:lblOffset val="100"/>
        <c:noMultiLvlLbl val="0"/>
      </c:catAx>
      <c:valAx>
        <c:axId val="980394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1500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A624-F98B-46A7-9182-D7AAFB5F6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67C2-8F4D-46E7-8CC1-B3FBBF63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9870-5BF9-447F-B3E9-59970F0AD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98FD-2D3D-404E-B8C2-46E882CFE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5CB3-B094-4BDB-B424-EB8CB308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E4BD-79B5-4015-B858-CEC408F1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8D0B-0D93-432A-B44F-E69F9AAA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AC09-AB20-4ED7-9B43-00208E7B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2255-847D-4961-BAFA-5DC3EFED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9832-4E7A-453E-BE59-B64C6141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7791-5AA8-4F81-82A3-4323A380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9F93-B87A-4D64-ACB4-44128420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B5D11-1FE9-4785-9500-9DB8C72F99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