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77262"/>
        <c:axId val="13938270"/>
      </c:barChart>
      <c:catAx>
        <c:axId val="46177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8270"/>
        <c:crosses val="autoZero"/>
        <c:auto val="1"/>
        <c:lblAlgn val="ctr"/>
        <c:lblOffset val="100"/>
        <c:noMultiLvlLbl val="0"/>
      </c:catAx>
      <c:valAx>
        <c:axId val="13938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7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838-24DD-4FCD-B4FA-79A5C0E3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65E-D673-447B-9671-AFB6B6EC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818-CF42-4CFC-A7A0-1DB57590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CB4-10F7-44E4-9C80-AF939F7A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8D2-2D41-4656-B582-B829538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6B2-BB98-4CB4-970B-A1C8FF19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043-B87A-4306-A1F9-377388C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0BB-B64A-44F0-8083-B6DFB41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7A0-BFB7-4FB2-AD8B-9983A7C8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970-CEA6-4CC5-95E5-FDD248BC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FDE-E3A7-4B3C-B27C-F8F5FA2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E01-34F4-4010-9591-E1694A5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090EE-AF8F-4619-9EA5-ABB9E12DD0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