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19862"/>
        <c:axId val="76076079"/>
      </c:barChart>
      <c:catAx>
        <c:axId val="89519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6079"/>
        <c:crosses val="autoZero"/>
        <c:auto val="1"/>
        <c:lblAlgn val="ctr"/>
        <c:lblOffset val="100"/>
        <c:noMultiLvlLbl val="0"/>
      </c:catAx>
      <c:valAx>
        <c:axId val="76076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19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1AE-8DE2-4448-BB13-DB99922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530-ADE8-4D47-A5AA-E3FDB96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822-07DD-4C71-B522-A94D3F8B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62F-306A-4134-B1E4-6C92A6F0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AAB-3C0B-4C20-826F-041E454E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11B-2B89-43A3-AC02-9A2EFF0C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C58-06D7-4140-8309-1E045882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373-279C-45F2-8D6F-96278276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5C8-D08F-4401-A655-F8E9D934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0B1-FA7E-4156-A657-E0BFDB4D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C18-DE5F-4275-88D3-18B0965E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8B0-3EFF-4C49-A0A9-1C540E8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2292-D3CA-4D86-B7FC-D92A517E8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