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615673"/>
        <c:axId val="75168158"/>
      </c:barChart>
      <c:catAx>
        <c:axId val="50615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68158"/>
        <c:crosses val="autoZero"/>
        <c:auto val="1"/>
        <c:lblAlgn val="ctr"/>
        <c:lblOffset val="100"/>
        <c:noMultiLvlLbl val="0"/>
      </c:catAx>
      <c:valAx>
        <c:axId val="75168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15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173-BBD8-4AD5-A82A-C56FB1AB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468-CBC9-4033-BD2F-E74C8A94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BB6-76BB-4E84-A3CA-15877A92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C00-4A5B-438C-846D-ECD1E57C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63D-3531-435E-92E9-AA3A22AA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D67-E444-4C9A-9A37-00215985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F88E-496C-48D1-9980-7890FD5D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F13-B3F2-4B5D-8D92-CE200D1A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361-807A-4598-8E9A-CE6ECADF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73A-03F5-4F82-BF74-971D3313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55D-B22B-4364-A35A-9DB0E6FA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57A-BECF-4DF4-AC23-FC698476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3E6B0-2CF1-4353-959A-DD3F105C49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