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11970"/>
        <c:axId val="91614567"/>
      </c:barChart>
      <c:catAx>
        <c:axId val="410119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14567"/>
        <c:crosses val="autoZero"/>
        <c:auto val="1"/>
        <c:lblAlgn val="ctr"/>
        <c:lblOffset val="100"/>
        <c:noMultiLvlLbl val="0"/>
      </c:catAx>
      <c:valAx>
        <c:axId val="91614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119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9F7F-5404-4959-AFAF-E1003718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4D1D-68BA-485E-89DF-FFE6F4EB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399D-0F3B-4F48-A390-F71269D7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9DF-2E2C-4E89-90FE-786AB62E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4797-59A2-41C1-A94B-0F168035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A649-6651-46E7-92F5-0AA0B957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837-2E2C-4367-A61A-83022921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6DB-426F-4944-A29F-457C5333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E8FD-EDBA-4C38-B11A-73954C26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EC46-2980-4B4F-800F-FE8BC515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779-EA56-4B60-897C-617D0F35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CFC-424A-41DD-907D-4C0448C0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BF57D-6BDF-4A8D-8B3F-F9D414DD67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