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79858"/>
        <c:axId val="58519998"/>
      </c:barChart>
      <c:catAx>
        <c:axId val="8387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19998"/>
        <c:crosses val="autoZero"/>
        <c:auto val="1"/>
        <c:lblAlgn val="ctr"/>
        <c:lblOffset val="100"/>
        <c:noMultiLvlLbl val="0"/>
      </c:catAx>
      <c:valAx>
        <c:axId val="58519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7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97F4-5AD7-43E9-9CFB-18921E4C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7CA7-82EC-4124-B441-8A2637B8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CCB-D405-41C0-8C53-4A9448AC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48C-8E7B-48EB-BA63-C720E75C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8AE-70B6-4CD4-9C07-B3D66244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E2B-B205-41FE-BF72-A37A543B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A63-D110-4BF4-A6CC-57B821E0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DF2-12D8-4F89-B281-32B7E331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BA1-C9CF-46A9-8646-7DE4BB05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E2F-ABE4-4364-9645-25C489E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1AF-8C0C-4321-8E68-28FBF5E1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9A1-94C7-4D8E-B1B5-3C69BD1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19C66-C561-4BFE-A1D7-248728784A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