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89342"/>
        <c:axId val="8341948"/>
      </c:barChart>
      <c:catAx>
        <c:axId val="16489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1948"/>
        <c:crosses val="autoZero"/>
        <c:auto val="1"/>
        <c:lblAlgn val="ctr"/>
        <c:lblOffset val="100"/>
        <c:noMultiLvlLbl val="0"/>
      </c:catAx>
      <c:valAx>
        <c:axId val="8341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89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34C-B49B-4524-8D0C-5AEB38A3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64A-EF7F-4C37-961C-EE4C0E79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0BB-68EF-4DFA-85BF-7CF0944C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39F-C4AA-4DA3-9377-8DD9AC60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2DC-4153-4318-B518-B96CA794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07D-105A-4876-B0E0-9DCCCE12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257-82F3-48F7-88C8-E272523B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81B-9575-4093-B3DF-C0D17124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DC2-6DC4-4D8C-B191-B5ED6C67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C52-FACB-4AE0-A090-11E070F8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0CD-0366-45BF-8950-B5FCDEF3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907-E21C-4690-B552-973B5B1F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F47A1-0B64-4233-B496-C1415CDB14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