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796622"/>
        <c:axId val="6031569"/>
      </c:barChart>
      <c:catAx>
        <c:axId val="297966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31569"/>
        <c:crosses val="autoZero"/>
        <c:auto val="1"/>
        <c:lblAlgn val="ctr"/>
        <c:lblOffset val="100"/>
        <c:noMultiLvlLbl val="0"/>
      </c:catAx>
      <c:valAx>
        <c:axId val="60315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7966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CC49-9085-406C-87E2-4551D1D73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D0B0-A808-48D2-A72F-F3FECBE0D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9B6F-84E8-4CDE-8008-D15F0762D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7F4C-CD7E-4733-8434-A72BC1AA2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52F9-C88F-4C0C-A2CB-4D394D392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D309-EF96-41A6-8660-4F37652B8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1841-3052-41A6-B9AA-FA1478521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CC99-6D67-40DD-B859-BC0E98FA2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7392-5D70-4517-9A4E-EEAD47743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E99B-4214-4E04-ACCB-0CF92601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EFAA-2E80-4B7D-B171-FC4DC9EB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8469-1789-4F3D-8F00-B4AAC65B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CCB2A0-31E4-49E6-BA5D-CF9DB2B2E45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