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44955"/>
        <c:axId val="59838758"/>
      </c:barChart>
      <c:catAx>
        <c:axId val="69144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38758"/>
        <c:crosses val="autoZero"/>
        <c:auto val="1"/>
        <c:lblAlgn val="ctr"/>
        <c:lblOffset val="100"/>
        <c:noMultiLvlLbl val="0"/>
      </c:catAx>
      <c:valAx>
        <c:axId val="59838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44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2C1-8515-4FD4-85C3-5110E544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7CF-5D58-481E-98D2-49B418CB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BC5-B7FD-4569-B06F-D4DC5F8A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84B-4E12-406A-9B07-199852E0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B59-D965-4F7C-9B9F-7C91B868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789-4C9A-46DA-B01F-136106ED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3FE-11C0-4AB2-88FA-9EE98B9D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3F2-DC38-48FC-89B0-EEE71123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AB5-EF13-41EC-A171-62CE555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04D-5387-4973-AE21-5D939963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674-12CB-4163-9A93-F41DE320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856-3D52-4759-94B0-F871A73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6EA48-A114-48EB-AF6E-A108401820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