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59672"/>
        <c:axId val="41825835"/>
      </c:barChart>
      <c:catAx>
        <c:axId val="22659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25835"/>
        <c:crosses val="autoZero"/>
        <c:auto val="1"/>
        <c:lblAlgn val="ctr"/>
        <c:lblOffset val="100"/>
        <c:noMultiLvlLbl val="0"/>
      </c:catAx>
      <c:valAx>
        <c:axId val="41825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59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955-2BA5-4DC1-B184-94ED9A18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FFD-F345-4451-A50B-B17E9429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BC1-1860-4E8E-A610-3C8622C4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C66-56C2-407B-A5A0-70C8C2C6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DA8-EA60-4F8B-AC85-201B2671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7DF-11C3-49FF-AD37-54F1FC62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BC1-3A34-4529-9BEB-02480241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6D8-3FBE-4294-9D33-2BA9F8F1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B58-DB3D-42A5-A375-E0AEF805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ECE-7877-48CC-A733-93AB95AD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672-535E-4C39-9F2E-B8348363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B60-55C0-43AE-90FF-203DDCDD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01FA9-A1BD-4F31-9A58-60BD4F5FFE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