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16559"/>
        <c:axId val="62478687"/>
      </c:barChart>
      <c:catAx>
        <c:axId val="69816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78687"/>
        <c:crosses val="autoZero"/>
        <c:auto val="1"/>
        <c:lblAlgn val="ctr"/>
        <c:lblOffset val="100"/>
        <c:noMultiLvlLbl val="0"/>
      </c:catAx>
      <c:valAx>
        <c:axId val="62478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16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A9F-DCC8-4D65-886D-4DA2F889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E9C-34B9-434A-AFCC-662F4E61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D88-3EE7-4266-A48F-FEA42991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06F-42C8-4B60-9898-18577FD0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691-8E8E-4F78-A7B6-078BBABF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3B0-4A85-413B-883C-76EF4608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322-3EF6-4665-B575-ADBAA005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807-2638-4056-AE37-A36E64A9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9BA-25D6-42A2-90F0-EA44E523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B7E-F74D-4A7B-B687-2C048207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B28-3C2E-4302-AB6D-73261FCF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E89-1EB8-40DA-BD07-158AEED0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80171-3A92-4D73-9753-E15672AC73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