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98800"/>
        <c:axId val="48889606"/>
      </c:barChart>
      <c:catAx>
        <c:axId val="48198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89606"/>
        <c:crosses val="autoZero"/>
        <c:auto val="1"/>
        <c:lblAlgn val="ctr"/>
        <c:lblOffset val="100"/>
        <c:noMultiLvlLbl val="0"/>
      </c:catAx>
      <c:valAx>
        <c:axId val="48889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98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12E-AF34-40CA-8AA9-7F65911E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11A-275C-4B24-A28B-DB699E0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FC9-EB66-4939-B640-0C6DD091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616-96CE-46B5-B504-30F1FAA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385-5115-4EFE-A898-6AC286B4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C8F-665C-4DDE-83B9-03DC07C0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124-62E0-40C1-8034-BEA0C04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3DD-EFF0-4CB1-B2CC-7267007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A32-A803-4D88-BD72-6E77EEA4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D9B-E5CD-4634-9229-B7E861EA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7AE-BE39-4030-8112-42FE929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03C-CEE6-470F-9249-BAC2C6E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C579B-5533-4864-AD8B-0142EF2BF5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