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77716"/>
        <c:axId val="15882354"/>
      </c:barChart>
      <c:catAx>
        <c:axId val="47577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2354"/>
        <c:crosses val="autoZero"/>
        <c:auto val="1"/>
        <c:lblAlgn val="ctr"/>
        <c:lblOffset val="100"/>
        <c:noMultiLvlLbl val="0"/>
      </c:catAx>
      <c:valAx>
        <c:axId val="15882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77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A34-EF7A-4F97-9DE3-97583E4A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FA3-D1FE-4342-BBE9-57E5BF0A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643-0818-44DB-94BE-DCAA5154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12D-66DF-4B0F-BF4A-3ADBA47D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102-6D36-4FA6-A9FD-BB8D3D1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E93-304C-4BF9-AC37-9ACE1BBC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531-07A0-431C-8F87-67358477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01B-64E4-451F-87DD-E45317E2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475-AC2E-489B-B859-EA6FC11E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296-DF07-4436-B8A5-7851319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770-4FFE-4CC1-A63B-425086D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4CB-E690-4D11-80B0-85108830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5C4B6-C284-44C0-B038-CE402ED54F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