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14979"/>
        <c:axId val="93309897"/>
      </c:barChart>
      <c:catAx>
        <c:axId val="48114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09897"/>
        <c:crosses val="autoZero"/>
        <c:auto val="1"/>
        <c:lblAlgn val="ctr"/>
        <c:lblOffset val="100"/>
        <c:noMultiLvlLbl val="0"/>
      </c:catAx>
      <c:valAx>
        <c:axId val="93309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4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74F-16FA-42E5-A04E-BF5AEBCE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A5A-6596-44C8-8B46-E453425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6CB-1B55-42D2-AE24-6AB63788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4B4-3C16-4360-A605-3F59815A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E42-66BE-4035-98BD-17E173D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B7A-54E9-4205-BB50-870912D9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001-5874-42B4-B6F5-C6F7B572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745-E199-49BF-82C4-593CEBC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0A4-F07C-49F3-80EC-63312529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055-9A36-4509-A8C6-2839634C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2FE-379D-467E-914E-1C984491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AFA-40F4-4350-8AA5-41F963E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C39AC-2E0F-443A-8F2B-2CACF68F5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