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74006"/>
        <c:axId val="30458752"/>
      </c:barChart>
      <c:catAx>
        <c:axId val="77174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58752"/>
        <c:crosses val="autoZero"/>
        <c:auto val="1"/>
        <c:lblAlgn val="ctr"/>
        <c:lblOffset val="100"/>
        <c:noMultiLvlLbl val="0"/>
      </c:catAx>
      <c:valAx>
        <c:axId val="30458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74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C16-92F6-4ACF-9453-610693A9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B95-6862-4940-92FF-8074D40E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77D-B94C-4617-99DB-4D39DED2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559-F239-4C0B-9A77-10173800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1F2-4C21-443A-B60D-BAE82A82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A96-B024-4F9D-8B86-EFF2186D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00B-B9CB-49FE-BF00-9B3DEE37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700-EDF0-4439-BA6E-C932543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8C2-A972-45E0-83B3-F3CC3E36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28F-850E-490F-AE76-71DAC745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53C-910B-4278-9B7B-8F0B32E4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57B-1DAA-41BE-8E65-A29D950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7DFFE-1BC0-40B1-8828-FCF2037D64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