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13210"/>
        <c:axId val="64655287"/>
      </c:barChart>
      <c:catAx>
        <c:axId val="18713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55287"/>
        <c:crosses val="autoZero"/>
        <c:auto val="1"/>
        <c:lblAlgn val="ctr"/>
        <c:lblOffset val="100"/>
        <c:noMultiLvlLbl val="0"/>
      </c:catAx>
      <c:valAx>
        <c:axId val="646552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13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C970-4380-457A-A920-48FA3FE3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D94-53CA-483A-A852-25260854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8007-7E9D-45B0-8A90-A99A0386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A92-BAF0-4EFA-AF60-D633A665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3327-1622-49A6-84D4-1FF8F399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4B1D-FAA1-4F90-A1DA-0A50007A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C29D-E25C-4592-A377-7F8097EF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FA4-3FFE-43E3-B2A6-5D4CD21D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7D03-41FE-4960-B8B4-270F60C0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006-C453-475E-B721-FFFF5795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5B17-4D56-40B0-9EBF-B3DED4E6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09C-D358-435D-B4A4-EC6AF240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4D3F3-35FA-4211-8A07-433FABF0AF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